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A13B4-38C6-4C48-A993-DA1796039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02B4F-CCBF-4954-973D-48E6043285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B118D-711B-4110-AB98-35ADE400A8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DADAF-E4D0-4382-91A4-8302E81CF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25F8-FB97-49EE-AE0B-24F92E034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3ACF-B266-45DE-9639-87FF4369D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1B1A-9730-4042-BF29-BDEEEAFFE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C0FB-FEB7-4C8C-B749-F4B22ADCC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040AC-386A-42D2-B80B-B77F23B0B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AA17D-E13C-49B5-AB8C-61182A27D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2E0FC-C0B0-4D41-BB6F-86C2B5413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AEEC5-4F63-4576-B67B-85DBE8A33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DBDA7-A536-4FB8-B705-27E581E71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09B40-89E7-4E75-BD69-3F037BFF6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6C8DA-B360-4E6D-A978-36BB4BCB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502C-CB7A-40CC-AD4F-DC7D472AC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84F41-D057-4B49-BD3C-9B8A055B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E4311-8B33-4962-8384-8B3094E6C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EBD0C-C5FE-4334-9696-83F60DA7A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7F79B-13DD-4F43-85C7-DF47CEA37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E1758-7E4C-454F-9F9C-CB147F982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64B6-8F33-4ED5-AC72-29864993A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3B21-B64C-4A83-903D-9058C93C8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7DF6-58CD-4343-B0CB-5EDE32FE8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66A9-A0C5-45D3-A519-2D764353A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AF45-AAF7-48FA-8C52-DB98C4AC3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430F-CE4E-4CE3-92C8-A84DE528A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A600-D9F2-4253-B62D-4E91CD7A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  <a:ea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61A25-18E5-4590-A707-5F6AB9D25ED9}" type="slidenum">
              <a:rPr b="0" lang="en-US" sz="1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C22ED-839E-4897-84BB-3B978ACBA712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A7BA4-9530-45BE-A142-B11BF26B4AA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7.xml"/><Relationship Id="rId3" Type="http://schemas.openxmlformats.org/officeDocument/2006/relationships/slide" Target="slide12.xml"/><Relationship Id="rId4" Type="http://schemas.openxmlformats.org/officeDocument/2006/relationships/slide" Target="slide17.xml"/><Relationship Id="rId5" Type="http://schemas.openxmlformats.org/officeDocument/2006/relationships/slide" Target="slide22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23.xml"/><Relationship Id="rId11" Type="http://schemas.openxmlformats.org/officeDocument/2006/relationships/slide" Target="slide4.xml"/><Relationship Id="rId12" Type="http://schemas.openxmlformats.org/officeDocument/2006/relationships/slide" Target="slide9.xml"/><Relationship Id="rId13" Type="http://schemas.openxmlformats.org/officeDocument/2006/relationships/slide" Target="slide14.xml"/><Relationship Id="rId14" Type="http://schemas.openxmlformats.org/officeDocument/2006/relationships/slide" Target="slide19.xml"/><Relationship Id="rId15" Type="http://schemas.openxmlformats.org/officeDocument/2006/relationships/slide" Target="slide24.xml"/><Relationship Id="rId16" Type="http://schemas.openxmlformats.org/officeDocument/2006/relationships/slide" Target="slide5.xml"/><Relationship Id="rId17" Type="http://schemas.openxmlformats.org/officeDocument/2006/relationships/slide" Target="slide10.xml"/><Relationship Id="rId18" Type="http://schemas.openxmlformats.org/officeDocument/2006/relationships/slide" Target="slide15.xml"/><Relationship Id="rId19" Type="http://schemas.openxmlformats.org/officeDocument/2006/relationships/slide" Target="slide20.xml"/><Relationship Id="rId20" Type="http://schemas.openxmlformats.org/officeDocument/2006/relationships/slide" Target="slide25.xml"/><Relationship Id="rId21" Type="http://schemas.openxmlformats.org/officeDocument/2006/relationships/slide" Target="slide6.xml"/><Relationship Id="rId22" Type="http://schemas.openxmlformats.org/officeDocument/2006/relationships/slide" Target="slide11.xml"/><Relationship Id="rId23" Type="http://schemas.openxmlformats.org/officeDocument/2006/relationships/slide" Target="slide16.xml"/><Relationship Id="rId24" Type="http://schemas.openxmlformats.org/officeDocument/2006/relationships/slide" Target="slide21.xml"/><Relationship Id="rId25" Type="http://schemas.openxmlformats.org/officeDocument/2006/relationships/slide" Target="slide26.xml"/><Relationship Id="rId2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5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Chapter 9 Revi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57200" y="990720"/>
          <a:ext cx="8381880" cy="566892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omic Sans MS"/>
                          <a:ea typeface="Comic Sans MS"/>
                        </a:rPr>
                        <a:t>Square Roo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omic Sans MS"/>
                          <a:ea typeface="Comic Sans MS"/>
                        </a:rPr>
                        <a:t>Triang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omic Sans MS"/>
                          <a:ea typeface="Comic Sans MS"/>
                        </a:rPr>
                        <a:t>The Pythagorean Theor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omic Sans MS"/>
                          <a:ea typeface="Comic Sans MS"/>
                        </a:rPr>
                        <a:t>Real Numb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omic Sans MS"/>
                          <a:ea typeface="Comic Sans MS"/>
                        </a:rPr>
                        <a:t>Distance and Midpoint Formul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Comic Sans MS"/>
                          <a:ea typeface="Comic Sans MS"/>
                          <a:hlinkClick r:id="rId1" action="ppaction://hlinksldjump"/>
                        </a:rPr>
                        <a:t>1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Comic Sans MS"/>
                          <a:ea typeface="Comic Sans MS"/>
                          <a:hlinkClick r:id="rId2" action="ppaction://hlinksldjump"/>
                        </a:rPr>
                        <a:t>1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Comic Sans MS"/>
                          <a:ea typeface="Comic Sans MS"/>
                          <a:hlinkClick r:id="rId3" action="ppaction://hlinksldjump"/>
                        </a:rPr>
                        <a:t>1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Comic Sans MS"/>
                          <a:ea typeface="Comic Sans MS"/>
                          <a:hlinkClick r:id="rId4" action="ppaction://hlinksldjump"/>
                        </a:rPr>
                        <a:t>1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Comic Sans MS"/>
                          <a:ea typeface="Comic Sans MS"/>
                          <a:hlinkClick r:id="rId5" action="ppaction://hlinksldjump"/>
                        </a:rPr>
                        <a:t>1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Comic Sans MS"/>
                          <a:ea typeface="Comic Sans MS"/>
                          <a:hlinkClick r:id="rId6" action="ppaction://hlinksldjump"/>
                        </a:rPr>
                        <a:t>2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Comic Sans MS"/>
                          <a:ea typeface="Comic Sans MS"/>
                          <a:hlinkClick r:id="rId7" action="ppaction://hlinksldjump"/>
                        </a:rPr>
                        <a:t>2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Comic Sans MS"/>
                          <a:ea typeface="Comic Sans MS"/>
                          <a:hlinkClick r:id="rId8" action="ppaction://hlinksldjump"/>
                        </a:rPr>
                        <a:t>2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Comic Sans MS"/>
                          <a:ea typeface="Comic Sans MS"/>
                          <a:hlinkClick r:id="rId9" action="ppaction://hlinksldjump"/>
                        </a:rPr>
                        <a:t>2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Comic Sans MS"/>
                          <a:ea typeface="Comic Sans MS"/>
                          <a:hlinkClick r:id="rId10" action="ppaction://hlinksldjump"/>
                        </a:rPr>
                        <a:t>2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Comic Sans MS"/>
                          <a:ea typeface="Comic Sans MS"/>
                          <a:hlinkClick r:id="rId11" action="ppaction://hlinksldjump"/>
                        </a:rPr>
                        <a:t>3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Comic Sans MS"/>
                          <a:ea typeface="Comic Sans MS"/>
                          <a:hlinkClick r:id="rId12" action="ppaction://hlinksldjump"/>
                        </a:rPr>
                        <a:t>3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Comic Sans MS"/>
                          <a:ea typeface="Comic Sans MS"/>
                          <a:hlinkClick r:id="rId13" action="ppaction://hlinksldjump"/>
                        </a:rPr>
                        <a:t>3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Comic Sans MS"/>
                          <a:ea typeface="Comic Sans MS"/>
                          <a:hlinkClick r:id="rId14" action="ppaction://hlinksldjump"/>
                        </a:rPr>
                        <a:t>3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Comic Sans MS"/>
                          <a:ea typeface="Comic Sans MS"/>
                          <a:hlinkClick r:id="rId15" action="ppaction://hlinksldjump"/>
                        </a:rPr>
                        <a:t>3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Comic Sans MS"/>
                          <a:ea typeface="Comic Sans MS"/>
                          <a:hlinkClick r:id="rId16" action="ppaction://hlinksldjump"/>
                        </a:rPr>
                        <a:t>4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Comic Sans MS"/>
                          <a:ea typeface="Comic Sans MS"/>
                          <a:hlinkClick r:id="rId17" action="ppaction://hlinksldjump"/>
                        </a:rPr>
                        <a:t>4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Comic Sans MS"/>
                          <a:ea typeface="Comic Sans MS"/>
                          <a:hlinkClick r:id="rId18" action="ppaction://hlinksldjump"/>
                        </a:rPr>
                        <a:t>4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Comic Sans MS"/>
                          <a:ea typeface="Comic Sans MS"/>
                          <a:hlinkClick r:id="rId19" action="ppaction://hlinksldjump"/>
                        </a:rPr>
                        <a:t>4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Comic Sans MS"/>
                          <a:ea typeface="Comic Sans MS"/>
                          <a:hlinkClick r:id="rId20" action="ppaction://hlinksldjump"/>
                        </a:rPr>
                        <a:t>4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Comic Sans MS"/>
                          <a:ea typeface="Comic Sans MS"/>
                          <a:hlinkClick r:id="rId21" action="ppaction://hlinksldjump"/>
                        </a:rPr>
                        <a:t>5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Comic Sans MS"/>
                          <a:ea typeface="Comic Sans MS"/>
                          <a:hlinkClick r:id="rId22" action="ppaction://hlinksldjump"/>
                        </a:rPr>
                        <a:t>5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Comic Sans MS"/>
                          <a:ea typeface="Comic Sans MS"/>
                          <a:hlinkClick r:id="rId23" action="ppaction://hlinksldjump"/>
                        </a:rPr>
                        <a:t>5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Comic Sans MS"/>
                          <a:ea typeface="Comic Sans MS"/>
                          <a:hlinkClick r:id="rId24" action="ppaction://hlinksldjump"/>
                        </a:rPr>
                        <a:t>5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Comic Sans MS"/>
                          <a:ea typeface="Comic Sans MS"/>
                          <a:hlinkClick r:id="rId25" action="ppaction://hlinksldjump"/>
                        </a:rPr>
                        <a:t>5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1504080" y="1759680"/>
            <a:ext cx="641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What is a triangle called th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has three congruent angl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Triangles – 40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896400" y="1759680"/>
            <a:ext cx="7616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What are the three w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to classify triangles by side length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Triangles – 50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762840" y="1759680"/>
            <a:ext cx="7716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What does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Pythagorean Theorem s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Pythagorean Theorem – 10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780120" y="1759680"/>
            <a:ext cx="7716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What do the variable </a:t>
            </a: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a, b,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and </a:t>
            </a: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stand for in </a:t>
            </a: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a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Comic Sans MS"/>
                <a:ea typeface="Comic Sans MS"/>
              </a:rPr>
              <a:t>2</a:t>
            </a: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 + b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Comic Sans MS"/>
                <a:ea typeface="Comic Sans MS"/>
              </a:rPr>
              <a:t>2</a:t>
            </a: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 = c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Comic Sans MS"/>
                <a:ea typeface="Comic Sans MS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Pythagorean Theorem – 20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799200" y="1686240"/>
            <a:ext cx="7716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The leg lengths of a right triang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are 10 and 24.  What is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length of the other sid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Pythagorean Theorem – 30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789480" y="1683360"/>
            <a:ext cx="8127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If </a:t>
            </a: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a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= 9 and </a:t>
            </a: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c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 = 41, what is the lengt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of the third side of a right triangl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Pythagorean Theorem – 40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151200" y="1836000"/>
            <a:ext cx="8806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Determine whether the side length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form a right triangle given 5, 64, and 65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Pythagorean Theorem – 50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448920" y="1759680"/>
            <a:ext cx="8379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Whole numbers are rational numbe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True or Fals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Real Numbers – 10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4"/>
          <p:cNvSpPr/>
          <p:nvPr/>
        </p:nvSpPr>
        <p:spPr>
          <a:xfrm>
            <a:off x="982080" y="1759680"/>
            <a:ext cx="7357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A number is rational if its decimal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form does wh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Real Numbers – 20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1671840" y="1756800"/>
            <a:ext cx="59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Is </a:t>
            </a:r>
            <a:r>
              <a:rPr b="0" lang="en-US" sz="3600" spc="-1" strike="noStrike">
                <a:solidFill>
                  <a:srgbClr val="ffffff"/>
                </a:solidFill>
                <a:latin typeface="Lucida Grande CE"/>
                <a:ea typeface="Lucida Grande CE"/>
              </a:rPr>
              <a:t>⅜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 rational or irration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Real Numbers – 30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1067040" y="1756800"/>
            <a:ext cx="719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What are the square roots of 36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Square Roots – 10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1728360" y="1756800"/>
            <a:ext cx="613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Is √49 rational or irration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Real Numbers – 40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4"/>
          <p:cNvSpPr/>
          <p:nvPr/>
        </p:nvSpPr>
        <p:spPr>
          <a:xfrm>
            <a:off x="1828440" y="1762200"/>
            <a:ext cx="5935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Complete the stat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using &lt;, &gt;, or =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4√3 ___ 27⁄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Real Numbers – 50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4"/>
          <p:cNvSpPr/>
          <p:nvPr/>
        </p:nvSpPr>
        <p:spPr>
          <a:xfrm>
            <a:off x="306720" y="1759320"/>
            <a:ext cx="85672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Find the slope of the line throug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the points (5, 4) and (8, 1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Distance and Midpoint Formulas – 10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4"/>
          <p:cNvSpPr/>
          <p:nvPr/>
        </p:nvSpPr>
        <p:spPr>
          <a:xfrm>
            <a:off x="348120" y="1680480"/>
            <a:ext cx="88005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What is the Midpoint Formul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Distance and Midpoint Formulas – 200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4"/>
          <p:cNvSpPr/>
          <p:nvPr/>
        </p:nvSpPr>
        <p:spPr>
          <a:xfrm>
            <a:off x="348120" y="1756440"/>
            <a:ext cx="88005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What is the Distance Formul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Distance and Midpoint Formulas – 300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195480" y="1759320"/>
            <a:ext cx="88005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Find the midpoint of the seg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with endpoints (-1, 3) and (3, 1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Distance and Midpoint Formulas – 400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128880" y="1911960"/>
            <a:ext cx="8919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Find the distance betwe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the points (1, 5) and (-2, 2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Distance and Midpoint Formulas – 500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1850400" y="1756800"/>
            <a:ext cx="563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Is 225 a perfect squ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Square Roots– 20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1963800" y="1756800"/>
            <a:ext cx="575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Approximate √1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Square Roots – 30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1725840" y="1756800"/>
            <a:ext cx="609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Solve the equation 362 = x</a:t>
            </a:r>
            <a:r>
              <a:rPr b="0" lang="en-US" sz="3600" spc="-1" strike="noStrike" baseline="30000">
                <a:solidFill>
                  <a:srgbClr val="ffffff"/>
                </a:solidFill>
                <a:latin typeface="Comic Sans MS"/>
                <a:ea typeface="Comic Sans MS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Square Roots – 40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1189080" y="1756800"/>
            <a:ext cx="688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Solve the equation x</a:t>
            </a:r>
            <a:r>
              <a:rPr b="0" lang="en-US" sz="3600" spc="-1" strike="noStrike" baseline="30000">
                <a:solidFill>
                  <a:srgbClr val="ffffff"/>
                </a:solidFill>
                <a:latin typeface="Comic Sans MS"/>
                <a:ea typeface="Comic Sans MS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 -15 = 129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Square Roots – 50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1499400" y="1759680"/>
            <a:ext cx="62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The sum of the measures i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a triangle i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Triangles – 10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1486800" y="1683360"/>
            <a:ext cx="6204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What is a triangle called if i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has three acute angl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Triangles – 20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871560" y="1762200"/>
            <a:ext cx="7572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The angle measures of a triang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Are 40°, 35°, and 105°.  How is th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triangle classifi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Triangles – 30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8T18:14:28Z</dcterms:created>
  <dc:creator>Philip Bigler</dc:creator>
  <dc:description/>
  <dc:language>en-US</dc:language>
  <cp:lastModifiedBy>Jennifer Karkoska</cp:lastModifiedBy>
  <dcterms:modified xsi:type="dcterms:W3CDTF">2009-06-14T22:43:37Z</dcterms:modified>
  <cp:revision>19</cp:revision>
  <dc:subject/>
  <dc:title>Slide 1</dc:title>
</cp:coreProperties>
</file>